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331450" cy="8207375"/>
  <p:notesSz cx="9942513" cy="6761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43200" cy="676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30704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30400" y="-360"/>
            <a:ext cx="431028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22760"/>
            <a:ext cx="4307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30400" y="6422760"/>
            <a:ext cx="43102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258F-4F3A-4FC3-A344-BD183CDE1C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3375000" y="506520"/>
            <a:ext cx="3192480" cy="253512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995040" y="3211200"/>
            <a:ext cx="7953480" cy="30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3"/>
          <p:cNvSpPr/>
          <p:nvPr/>
        </p:nvSpPr>
        <p:spPr>
          <a:xfrm>
            <a:off x="5630760" y="6423120"/>
            <a:ext cx="4310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16C48-D5B0-4E69-9FB5-70AC2E3324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3EA0-7452-4C54-B7BA-D9D2B38F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5E7-204F-4C8F-B446-0B780D0E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103D-814B-4B63-83AD-CDC56421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048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05440" y="191628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552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048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05440" y="4745520"/>
            <a:ext cx="299484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533-5F45-4BC4-AA72-EB501CE7C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4DFD-291E-4571-887D-FFD54EBD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55CF-D150-40A5-B4E8-705DB16D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6F7F-703F-4111-9D74-3EF7CEE4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87D-9D66-4A23-8D12-4944C43E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5520" y="328320"/>
            <a:ext cx="9301320" cy="634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3E6D-BBB2-4273-BC9F-9579B9A7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F3C2-AADE-4D76-802A-B3149704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81560" y="474552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2EDA-0182-4F55-829C-5F34C792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552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81560" y="1916280"/>
            <a:ext cx="453888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520" y="4745520"/>
            <a:ext cx="9301320" cy="2583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BDC-0589-4073-99D7-B9B9803D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5520" y="328320"/>
            <a:ext cx="9301320" cy="13683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5520" y="1916280"/>
            <a:ext cx="9301320" cy="54165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3301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4080" indent="-2653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436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8428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552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30160" y="7475040"/>
            <a:ext cx="32720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405200" y="7475040"/>
            <a:ext cx="2411640" cy="5698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DD21-5F2A-4E48-89F7-56A8DBB7C4A8}" type="slidenum">
              <a:rPr b="0" lang="ru-RU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8" descr=""/>
          <p:cNvPicPr/>
          <p:nvPr/>
        </p:nvPicPr>
        <p:blipFill>
          <a:blip r:embed="rId1"/>
          <a:stretch/>
        </p:blipFill>
        <p:spPr>
          <a:xfrm>
            <a:off x="106200" y="7751880"/>
            <a:ext cx="10090440" cy="1886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279360" y="4068720"/>
            <a:ext cx="1004400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241"/>
          <p:cNvSpPr/>
          <p:nvPr/>
        </p:nvSpPr>
        <p:spPr>
          <a:xfrm>
            <a:off x="-36360" y="0"/>
            <a:ext cx="10415520" cy="928800"/>
          </a:xfrm>
          <a:prstGeom prst="rect">
            <a:avLst/>
          </a:prstGeom>
          <a:solidFill>
            <a:srgbClr val="204d8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ФОТОМАТЕРИАЛЫ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о акции «Безопасный  лёд» на территории  Солтонского района Алтай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(по состоянию на 19.12.2024 г.)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48"/>
          <p:cNvSpPr/>
          <p:nvPr/>
        </p:nvSpPr>
        <p:spPr>
          <a:xfrm>
            <a:off x="217440" y="7920"/>
            <a:ext cx="1033776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ts val="15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"/>
          <p:cNvPicPr/>
          <p:nvPr/>
        </p:nvPicPr>
        <p:blipFill>
          <a:blip r:embed="rId2"/>
          <a:stretch/>
        </p:blipFill>
        <p:spPr>
          <a:xfrm>
            <a:off x="9510840" y="141120"/>
            <a:ext cx="590400" cy="59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414360" y="421164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562720" y="42148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5554800" y="7751880"/>
            <a:ext cx="425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399960" y="7758000"/>
            <a:ext cx="42498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ведение профилактических бесед с населе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1" descr=""/>
          <p:cNvPicPr/>
          <p:nvPr/>
        </p:nvPicPr>
        <p:blipFill>
          <a:blip r:embed="rId3"/>
          <a:srcRect l="0" t="16257" r="0" b="3779"/>
          <a:stretch/>
        </p:blipFill>
        <p:spPr>
          <a:xfrm>
            <a:off x="79200" y="1046160"/>
            <a:ext cx="5038920" cy="30225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rcRect l="0" t="16257" r="0" b="3779"/>
          <a:stretch/>
        </p:blipFill>
        <p:spPr>
          <a:xfrm>
            <a:off x="5227560" y="1046160"/>
            <a:ext cx="5040360" cy="30225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3" descr=""/>
          <p:cNvPicPr/>
          <p:nvPr/>
        </p:nvPicPr>
        <p:blipFill>
          <a:blip r:embed="rId5"/>
          <a:srcRect l="0" t="20036" r="0" b="0"/>
          <a:stretch/>
        </p:blipFill>
        <p:spPr>
          <a:xfrm>
            <a:off x="79200" y="4599000"/>
            <a:ext cx="5038920" cy="30225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6"/>
          <a:srcRect l="0" t="10518" r="0" b="9518"/>
          <a:stretch/>
        </p:blipFill>
        <p:spPr>
          <a:xfrm>
            <a:off x="5213520" y="4599000"/>
            <a:ext cx="503856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испетчер</dc:creator>
  <dc:description/>
  <dc:language>en-US</dc:language>
  <cp:lastModifiedBy>Пользователь</cp:lastModifiedBy>
  <cp:lastPrinted>2022-07-19T08:04:50Z</cp:lastPrinted>
  <dcterms:modified xsi:type="dcterms:W3CDTF">2024-12-19T04:20:03Z</dcterms:modified>
  <cp:revision>3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