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D6C-91A5-4321-9719-920B479D2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7D12-D583-4BB6-BED7-80EA34147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224-1E4C-46B2-81E8-F1726F52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A4B-2361-4DC1-B24C-942D5E5A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8D9-1886-4A06-AD89-0174E952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02A-9369-478D-95A1-D760BE30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B17-A3A5-4426-BF02-9BA0183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7F6-607C-455B-91BE-D94098B3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804-2337-4BCF-A0D4-F7248A9E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F17-CCD4-4F88-94A6-4FBCAE43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25C-5B44-4B10-88EF-34ABE183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8CF-151D-46A3-AF21-7AD85065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844-7E7B-4C81-BEC7-3E9B6F4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49C-F0A9-4456-BE5D-378D8B58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99D2-F6AC-4722-826F-A020774A11DA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217160" cy="377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71360" y="4138560"/>
            <a:ext cx="1016820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-36360" y="0"/>
            <a:ext cx="10415520" cy="9288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акции «Вода -безопасная территория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состоянию на 29.05.2024 г.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7440" y="422928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86320" y="424656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386320" y="7705800"/>
            <a:ext cx="4237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7440" y="77058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5227560" y="1046160"/>
            <a:ext cx="111240" cy="711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4"/>
          <a:stretch/>
        </p:blipFill>
        <p:spPr>
          <a:xfrm>
            <a:off x="4962600" y="954000"/>
            <a:ext cx="276120" cy="7255080"/>
          </a:xfrm>
          <a:prstGeom prst="rect">
            <a:avLst/>
          </a:prstGeom>
          <a:ln w="0">
            <a:noFill/>
          </a:ln>
        </p:spPr>
      </p:pic>
      <p:sp>
        <p:nvSpPr>
          <p:cNvPr id="59" name="Picture 19"/>
          <p:cNvSpPr/>
          <p:nvPr/>
        </p:nvSpPr>
        <p:spPr>
          <a:xfrm>
            <a:off x="1076400" y="1046160"/>
            <a:ext cx="31017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C:\Users\User\Desktop\WhatsApp Image 2024-05-29 at 10.21.03 (2).jpeg"/>
          <p:cNvPicPr/>
          <p:nvPr/>
        </p:nvPicPr>
        <p:blipFill>
          <a:blip r:embed="rId5"/>
          <a:stretch/>
        </p:blipFill>
        <p:spPr>
          <a:xfrm>
            <a:off x="106200" y="1046160"/>
            <a:ext cx="4908600" cy="31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C:\Users\User\Desktop\WhatsApp Image 2024-05-29 at 10.21.04.jpeg"/>
          <p:cNvPicPr/>
          <p:nvPr/>
        </p:nvPicPr>
        <p:blipFill>
          <a:blip r:embed="rId6"/>
          <a:stretch/>
        </p:blipFill>
        <p:spPr>
          <a:xfrm>
            <a:off x="106200" y="4603680"/>
            <a:ext cx="4908600" cy="300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C:\Users\User\Desktop\WhatsApp Image 2024-05-29 at 10.21.03.jpeg"/>
          <p:cNvPicPr/>
          <p:nvPr/>
        </p:nvPicPr>
        <p:blipFill>
          <a:blip r:embed="rId7"/>
          <a:stretch/>
        </p:blipFill>
        <p:spPr>
          <a:xfrm>
            <a:off x="5100480" y="1046160"/>
            <a:ext cx="5172120" cy="309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C:\Users\User\Desktop\WhatsApp Image 2024-05-29 at 10.21.03 (1).jpeg"/>
          <p:cNvPicPr/>
          <p:nvPr/>
        </p:nvPicPr>
        <p:blipFill>
          <a:blip r:embed="rId8"/>
          <a:stretch/>
        </p:blipFill>
        <p:spPr>
          <a:xfrm>
            <a:off x="5100480" y="4603680"/>
            <a:ext cx="51721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4-05-29T03:30:11Z</dcterms:modified>
  <cp:revision>3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