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331450" cy="8207375"/>
  <p:notesSz cx="9942513" cy="6761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3200" cy="676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704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0400" y="-360"/>
            <a:ext cx="431028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75000" y="506520"/>
            <a:ext cx="3192480" cy="253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11200"/>
            <a:ext cx="795348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22760"/>
            <a:ext cx="4307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0400" y="6422760"/>
            <a:ext cx="43102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5AFC-0BBA-4095-BB54-DB9EC9474F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3375000" y="506520"/>
            <a:ext cx="3192480" cy="253512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95040" y="3211200"/>
            <a:ext cx="7953480" cy="30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омер слайда 3"/>
          <p:cNvSpPr/>
          <p:nvPr/>
        </p:nvSpPr>
        <p:spPr>
          <a:xfrm>
            <a:off x="5630760" y="6423120"/>
            <a:ext cx="4310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9D07-9F97-4590-B7D4-F21A622487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01F1-9AD0-4A9D-A508-A3C97869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520" y="474552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4AFC-EB6B-4B14-9D32-0CC3084B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8156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718A-B83A-45A7-93B8-1A7AC491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048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0544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52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048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0544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F2FE-7A67-493D-8211-3ADBA5D8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8970-81D7-4864-8DC0-3BEB7767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0378-5651-4CD3-A891-BEB87429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82A5-E6BB-4B7B-B8BF-AC71A860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36AE-706A-42A0-AADA-B8FD8D54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520" y="328320"/>
            <a:ext cx="9301320" cy="63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CF0-67AB-4F2E-BB58-A27E450C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E12A-161E-485A-B5EF-1D4A7691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8156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A63D-2FDD-4C92-9E41-D4D580C6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5A66-C3C6-4B3A-AC2A-3283676A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6720" indent="-396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01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854360" indent="-2653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7475040"/>
            <a:ext cx="24116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0160" y="7475040"/>
            <a:ext cx="32720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05200" y="7475040"/>
            <a:ext cx="24116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7030-5118-445A-A881-B61DA6E6E9E8}" type="slidenum">
              <a:rPr b="0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" descr=""/>
          <p:cNvPicPr/>
          <p:nvPr/>
        </p:nvPicPr>
        <p:blipFill>
          <a:blip r:embed="rId1"/>
          <a:stretch/>
        </p:blipFill>
        <p:spPr>
          <a:xfrm>
            <a:off x="106200" y="7751880"/>
            <a:ext cx="10217160" cy="3776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171360" y="4138560"/>
            <a:ext cx="10168200" cy="6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41"/>
          <p:cNvSpPr/>
          <p:nvPr/>
        </p:nvSpPr>
        <p:spPr>
          <a:xfrm>
            <a:off x="-36360" y="0"/>
            <a:ext cx="10415520" cy="928800"/>
          </a:xfrm>
          <a:prstGeom prst="rect">
            <a:avLst/>
          </a:prstGeom>
          <a:solidFill>
            <a:srgbClr val="204d8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ФОТОМАТЕРИАЛЫ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акции «Вода -безопасная территория» на территории  Солтонского района Алтай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по состоянию на 01.06.2024 г.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48"/>
          <p:cNvSpPr/>
          <p:nvPr/>
        </p:nvSpPr>
        <p:spPr>
          <a:xfrm>
            <a:off x="217440" y="7920"/>
            <a:ext cx="103377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2"/>
          <a:stretch/>
        </p:blipFill>
        <p:spPr>
          <a:xfrm>
            <a:off x="9510840" y="141120"/>
            <a:ext cx="590400" cy="597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217440" y="4229280"/>
            <a:ext cx="4249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386320" y="4246560"/>
            <a:ext cx="42512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386320" y="7705800"/>
            <a:ext cx="42372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17440" y="7705800"/>
            <a:ext cx="4249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5" descr=""/>
          <p:cNvPicPr/>
          <p:nvPr/>
        </p:nvPicPr>
        <p:blipFill>
          <a:blip r:embed="rId3"/>
          <a:stretch/>
        </p:blipFill>
        <p:spPr>
          <a:xfrm>
            <a:off x="5227560" y="1046160"/>
            <a:ext cx="111240" cy="7115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"/>
          <p:cNvPicPr/>
          <p:nvPr/>
        </p:nvPicPr>
        <p:blipFill>
          <a:blip r:embed="rId4"/>
          <a:stretch/>
        </p:blipFill>
        <p:spPr>
          <a:xfrm>
            <a:off x="4962600" y="954000"/>
            <a:ext cx="276120" cy="7255080"/>
          </a:xfrm>
          <a:prstGeom prst="rect">
            <a:avLst/>
          </a:prstGeom>
          <a:ln w="0">
            <a:noFill/>
          </a:ln>
        </p:spPr>
      </p:pic>
      <p:sp>
        <p:nvSpPr>
          <p:cNvPr id="59" name="Picture 19"/>
          <p:cNvSpPr/>
          <p:nvPr/>
        </p:nvSpPr>
        <p:spPr>
          <a:xfrm>
            <a:off x="1076400" y="1046160"/>
            <a:ext cx="310176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8" descr="C:\Users\User\Desktop\01.06.24\48831fc7-04d8-400f-b199-d280ac09bdcd.jpg"/>
          <p:cNvPicPr/>
          <p:nvPr/>
        </p:nvPicPr>
        <p:blipFill>
          <a:blip r:embed="rId5"/>
          <a:stretch/>
        </p:blipFill>
        <p:spPr>
          <a:xfrm>
            <a:off x="39600" y="1046160"/>
            <a:ext cx="5035680" cy="3149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C:\Users\User\Desktop\01.06.24\a317f5b5-1e5a-4ce8-9ba6-a8db8c78dc28.jpg"/>
          <p:cNvPicPr/>
          <p:nvPr/>
        </p:nvPicPr>
        <p:blipFill>
          <a:blip r:embed="rId6"/>
          <a:stretch/>
        </p:blipFill>
        <p:spPr>
          <a:xfrm>
            <a:off x="5164200" y="4629240"/>
            <a:ext cx="5094360" cy="2981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C:\Users\User\Desktop\01.06.24\d694f138-a836-4ec4-8670-bdbbec23a9cf.jpg"/>
          <p:cNvPicPr/>
          <p:nvPr/>
        </p:nvPicPr>
        <p:blipFill>
          <a:blip r:embed="rId7"/>
          <a:stretch/>
        </p:blipFill>
        <p:spPr>
          <a:xfrm>
            <a:off x="5164200" y="1046160"/>
            <a:ext cx="5094360" cy="3149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" descr="C:\Users\User\Desktop\01.06.24\f3f45910-0da2-4b2e-b82f-e6baec6ed7c8.jpg"/>
          <p:cNvPicPr/>
          <p:nvPr/>
        </p:nvPicPr>
        <p:blipFill>
          <a:blip r:embed="rId8"/>
          <a:stretch/>
        </p:blipFill>
        <p:spPr>
          <a:xfrm>
            <a:off x="39600" y="4629240"/>
            <a:ext cx="50356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испетчер</dc:creator>
  <dc:description/>
  <dc:language>en-US</dc:language>
  <cp:lastModifiedBy>Пользователь</cp:lastModifiedBy>
  <cp:lastPrinted>2022-07-19T08:04:50Z</cp:lastPrinted>
  <dcterms:modified xsi:type="dcterms:W3CDTF">2024-06-01T02:08:02Z</dcterms:modified>
  <cp:revision>3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