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0FA2-3E19-4530-AFB4-17CF92691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16B4-8BA4-49DA-9D44-B58A38C70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58E-2813-4209-BA2C-BA63D801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8C2-5F86-441B-9EB0-25F65DCF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FD2-399B-4346-BDF8-E45227E9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548-B921-49B4-A24F-D833E416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5D9-67D2-4A5D-A66E-23AF042E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269-809E-4209-BCAC-EB884874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1FB-C98E-417D-9410-356A346D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CC0-C662-42A2-9A68-551480C7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6B4-81E6-4AC5-A4F1-3EB911F2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C32-AD79-4C5A-A7EE-478975DE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551-5696-471D-9FB4-0B1DF481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312-6D34-40F3-9809-7419B23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F493-464B-451A-B38C-7590C3D1347C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090440" cy="188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79360" y="4068720"/>
            <a:ext cx="1004400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-36360" y="7920"/>
            <a:ext cx="10415520" cy="9288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акции «Безопасный  лёд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по состоянию на 28.01.2025 г.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414360" y="421164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562720" y="42148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554800" y="77518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99960" y="77580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C:\Users\User\Desktop\5244460569896018774.jpg"/>
          <p:cNvPicPr/>
          <p:nvPr/>
        </p:nvPicPr>
        <p:blipFill>
          <a:blip r:embed="rId3"/>
          <a:stretch/>
        </p:blipFill>
        <p:spPr>
          <a:xfrm>
            <a:off x="106200" y="1077840"/>
            <a:ext cx="4908600" cy="299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C:\Users\User\Desktop\5244460569896018775.jpg"/>
          <p:cNvPicPr/>
          <p:nvPr/>
        </p:nvPicPr>
        <p:blipFill>
          <a:blip r:embed="rId4"/>
          <a:stretch/>
        </p:blipFill>
        <p:spPr>
          <a:xfrm>
            <a:off x="5151600" y="1077840"/>
            <a:ext cx="5062320" cy="299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C:\Users\User\Desktop\5244460569896018776.jpg"/>
          <p:cNvPicPr/>
          <p:nvPr/>
        </p:nvPicPr>
        <p:blipFill>
          <a:blip r:embed="rId5"/>
          <a:stretch/>
        </p:blipFill>
        <p:spPr>
          <a:xfrm>
            <a:off x="106200" y="4637160"/>
            <a:ext cx="4907160" cy="30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C:\Users\User\Desktop\5244460569896018777.jpg"/>
          <p:cNvPicPr/>
          <p:nvPr/>
        </p:nvPicPr>
        <p:blipFill>
          <a:blip r:embed="rId6"/>
          <a:stretch/>
        </p:blipFill>
        <p:spPr>
          <a:xfrm>
            <a:off x="5172120" y="4637160"/>
            <a:ext cx="5027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5-01-28T02:49:21Z</dcterms:modified>
  <cp:revision>3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