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D1BB-6C27-43D7-BC8A-45FAE996B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B797-A3E3-483D-89CF-E664145F5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AAA-9BC5-4DB8-B389-EB31789D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F54-6CDA-465A-8F27-CA22C8B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1F3-8D5C-4C2D-AD10-757BBB1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C89-6A33-4D03-8685-328D7C4E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FEE-51ED-4169-90C4-550C700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3D3-811A-4129-AED2-847BC4E2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B3B-B42D-4B39-8EC4-C11DAA77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A0A-13EA-4E61-B46B-BD6B6AB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CAE-5381-4978-A472-0CC7BE5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AA3-157E-40CA-A103-A6C17CA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1C4-CEEF-4DE1-B6E5-791699EC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E60-2580-461A-8CAE-2E988C4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59E4-1F03-475C-99D2-8776A8317932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090440" cy="188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79360" y="4068720"/>
            <a:ext cx="100440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792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акции «Безопасный  лёд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по состоянию на 25.03.2025 г.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414360" y="421164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562720" y="4214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554800" y="7751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99960" y="77580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C:\Users\User\Desktop\WhatsApp Image 2025-03-25 at 09.33.45 (1).jpeg"/>
          <p:cNvPicPr/>
          <p:nvPr/>
        </p:nvPicPr>
        <p:blipFill>
          <a:blip r:embed="rId3"/>
          <a:stretch/>
        </p:blipFill>
        <p:spPr>
          <a:xfrm>
            <a:off x="106200" y="1055520"/>
            <a:ext cx="4984920" cy="301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:\Users\User\Desktop\WhatsApp Image 2025-03-25 at 09.33.45.jpeg"/>
          <p:cNvPicPr/>
          <p:nvPr/>
        </p:nvPicPr>
        <p:blipFill>
          <a:blip r:embed="rId4"/>
          <a:stretch/>
        </p:blipFill>
        <p:spPr>
          <a:xfrm>
            <a:off x="5175360" y="1055520"/>
            <a:ext cx="5025960" cy="301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User\Desktop\WhatsApp Image 2025-03-25 at 09.52.57 (1).jpeg"/>
          <p:cNvPicPr/>
          <p:nvPr/>
        </p:nvPicPr>
        <p:blipFill>
          <a:blip r:embed="rId5"/>
          <a:stretch/>
        </p:blipFill>
        <p:spPr>
          <a:xfrm>
            <a:off x="106200" y="4637160"/>
            <a:ext cx="4984920" cy="30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C:\Users\User\Desktop\WhatsApp Image 2025-03-25 at 09.52.30.jpeg"/>
          <p:cNvPicPr/>
          <p:nvPr/>
        </p:nvPicPr>
        <p:blipFill>
          <a:blip r:embed="rId6"/>
          <a:stretch/>
        </p:blipFill>
        <p:spPr>
          <a:xfrm>
            <a:off x="5170320" y="4637160"/>
            <a:ext cx="5031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3-25T02:57:50Z</dcterms:modified>
  <cp:revision>3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