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5ECA-07D3-49E6-9776-7C7FE65EE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6862-A783-4BE9-A90F-FA212E3F3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B16-524E-490E-9CDC-1B535656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FB4-2BC0-4B34-9AA0-D678F5BB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5A7-FFE6-43A4-8DF5-4D2E04A7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C86-1CC0-41BF-98D4-794F67F2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237-57C8-4513-A214-2A503452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8A3-B0A5-48B3-AC33-DF8821A4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2C4-7C1F-4EEE-B0B1-F3202BF4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B33-A69F-4D07-89AF-BC9DD5F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0A2-F720-4D4A-913B-1FECC2B4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F60-3E8D-4D07-BBDE-E69C4E66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498-EC2A-44FD-B84F-0AA91CF1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C67-6D78-4E33-8755-0DD2BBD6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5449-4E45-4C60-9A73-78ADF5AF3785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090440" cy="188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79360" y="4068720"/>
            <a:ext cx="1004400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-36360" y="7920"/>
            <a:ext cx="10415520" cy="9288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акции «Безопасный  лёд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по состоянию на 25.02.2025 г.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414360" y="421164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562720" y="42148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554800" y="77518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99960" y="77580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C:\Users\User\Desktop\5325861934005873281.jpg"/>
          <p:cNvPicPr/>
          <p:nvPr/>
        </p:nvPicPr>
        <p:blipFill>
          <a:blip r:embed="rId3"/>
          <a:stretch/>
        </p:blipFill>
        <p:spPr>
          <a:xfrm>
            <a:off x="106200" y="1055520"/>
            <a:ext cx="4908600" cy="301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C:\Users\User\Desktop\5327961189466104552.jpg"/>
          <p:cNvPicPr/>
          <p:nvPr/>
        </p:nvPicPr>
        <p:blipFill>
          <a:blip r:embed="rId4"/>
          <a:stretch/>
        </p:blipFill>
        <p:spPr>
          <a:xfrm>
            <a:off x="5151600" y="1055520"/>
            <a:ext cx="5045040" cy="301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C:\Users\User\Desktop\5325861934005873282.jpg"/>
          <p:cNvPicPr/>
          <p:nvPr/>
        </p:nvPicPr>
        <p:blipFill>
          <a:blip r:embed="rId5"/>
          <a:stretch/>
        </p:blipFill>
        <p:spPr>
          <a:xfrm>
            <a:off x="106200" y="4637160"/>
            <a:ext cx="4908600" cy="294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C:\Users\User\Desktop\5325861934005873280.jpg"/>
          <p:cNvPicPr/>
          <p:nvPr/>
        </p:nvPicPr>
        <p:blipFill>
          <a:blip r:embed="rId6"/>
          <a:stretch/>
        </p:blipFill>
        <p:spPr>
          <a:xfrm>
            <a:off x="5170320" y="4637160"/>
            <a:ext cx="50263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5-02-25T04:16:40Z</dcterms:modified>
  <cp:revision>3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