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4CF8-9583-479B-8A0A-B20D04677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EFC-67A5-4DDA-84B2-7E3165FC8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F4E-467A-42D6-9D28-CB2CB3CE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1C3-0618-4918-9709-1107D08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ADB-D3ED-42AB-883C-F61ED13D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FFA-4713-4FCB-9193-B670729A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422-EF7A-4474-8ED3-815871B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019-01E1-4718-8D79-D2C05F3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95D-DEFD-4F9E-A9A1-306B1C9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B3A-8D65-4364-9BDB-D2D2979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C3B-F937-446C-B92C-E7B2CF6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2A0-BDE6-4E20-B75F-75C82B2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BA8-554A-41AA-B8E2-4B5BA63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F7B-7675-4CA7-86C3-AE302FA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2A5-1E1C-4862-B0A3-28AF1810E00D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01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106200" y="0"/>
            <a:ext cx="10166400" cy="9540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 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26.06.2025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38800" y="42292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51440" y="1046160"/>
            <a:ext cx="138240" cy="713736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Desktop\24 ПСЧ Вода безопасная территория 26.06.2025\IMG_20250626_094812.jpg"/>
          <p:cNvPicPr/>
          <p:nvPr/>
        </p:nvPicPr>
        <p:blipFill>
          <a:blip r:embed="rId5"/>
          <a:stretch/>
        </p:blipFill>
        <p:spPr>
          <a:xfrm>
            <a:off x="135000" y="104616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"/>
          <p:cNvPicPr/>
          <p:nvPr/>
        </p:nvPicPr>
        <p:blipFill>
          <a:blip r:embed="rId6"/>
          <a:stretch/>
        </p:blipFill>
        <p:spPr>
          <a:xfrm>
            <a:off x="5126040" y="101916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"/>
          <p:cNvPicPr/>
          <p:nvPr/>
        </p:nvPicPr>
        <p:blipFill>
          <a:blip r:embed="rId7"/>
          <a:stretch/>
        </p:blipFill>
        <p:spPr>
          <a:xfrm>
            <a:off x="135000" y="458640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"/>
          <p:cNvPicPr/>
          <p:nvPr/>
        </p:nvPicPr>
        <p:blipFill>
          <a:blip r:embed="rId8"/>
          <a:stretch/>
        </p:blipFill>
        <p:spPr>
          <a:xfrm>
            <a:off x="5095800" y="45864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6-26T04:25:36Z</dcterms:modified>
  <cp:revision>3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