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331450" cy="8207375"/>
  <p:notesSz cx="9942513" cy="6761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43200" cy="676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30704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30400" y="-360"/>
            <a:ext cx="431028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375000" y="506520"/>
            <a:ext cx="3192480" cy="2535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5040" y="3211200"/>
            <a:ext cx="7953480" cy="30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22760"/>
            <a:ext cx="4307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30400" y="6422760"/>
            <a:ext cx="43102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5F487-5928-428B-A4F7-E8728CE09C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3375000" y="506520"/>
            <a:ext cx="3192480" cy="253512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95040" y="3211200"/>
            <a:ext cx="7953480" cy="30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Номер слайда 3"/>
          <p:cNvSpPr/>
          <p:nvPr/>
        </p:nvSpPr>
        <p:spPr>
          <a:xfrm>
            <a:off x="5630760" y="6423120"/>
            <a:ext cx="4310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C7738-B983-48DC-B6C0-AE3E04D897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9561-B191-4007-AD72-875BCED78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5520" y="1916280"/>
            <a:ext cx="930132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520" y="4745520"/>
            <a:ext cx="930132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A8C9-B989-4788-B10B-97D3DEB1E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5520" y="191628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81560" y="191628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5520" y="474552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81560" y="474552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FCD1-50FD-41E6-AB71-B5FFA15C6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5520" y="1916280"/>
            <a:ext cx="299484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60480" y="1916280"/>
            <a:ext cx="299484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05440" y="1916280"/>
            <a:ext cx="299484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5520" y="4745520"/>
            <a:ext cx="299484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60480" y="4745520"/>
            <a:ext cx="299484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805440" y="4745520"/>
            <a:ext cx="299484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97F9-8C03-4713-B1F3-DC0A6DAC9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5520" y="1916280"/>
            <a:ext cx="9301320" cy="54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5B10-FAC5-4436-B23D-2CCBCB4D8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5520" y="1916280"/>
            <a:ext cx="9301320" cy="54165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3D1A-1DC4-4929-AB69-11946F898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5520" y="1916280"/>
            <a:ext cx="4538880" cy="54165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81560" y="1916280"/>
            <a:ext cx="4538880" cy="54165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B428-E8CC-492A-8C08-C0D107353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A773-4860-4FCB-A3A1-03A358ED2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5520" y="328320"/>
            <a:ext cx="9301320" cy="63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4467-599D-4655-B3BD-1577A307D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5520" y="191628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81560" y="1916280"/>
            <a:ext cx="4538880" cy="54165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5520" y="474552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8EA4-DBEA-446F-B348-87188403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5520" y="1916280"/>
            <a:ext cx="4538880" cy="54165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81560" y="191628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81560" y="474552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CEAC-7433-42DD-8A43-4C321906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5520" y="191628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81560" y="191628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520" y="4745520"/>
            <a:ext cx="930132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82AF-D3CA-4648-9F7A-835F49DA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5520" y="1916280"/>
            <a:ext cx="9301320" cy="54165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marL="396720" indent="-39672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3012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2" marL="1324080" indent="-26532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3" marL="1854360" indent="-26532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4" marL="2384280" indent="-26496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5" marL="2384280" indent="-26496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6" marL="2384280" indent="-26496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5520" y="7475040"/>
            <a:ext cx="2411640" cy="5698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30160" y="7475040"/>
            <a:ext cx="3272040" cy="5698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405200" y="7475040"/>
            <a:ext cx="2411640" cy="5698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140C8-2598-4964-97EF-28B979F194DA}" type="slidenum">
              <a:rPr b="0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8" descr=""/>
          <p:cNvPicPr/>
          <p:nvPr/>
        </p:nvPicPr>
        <p:blipFill>
          <a:blip r:embed="rId1"/>
          <a:stretch/>
        </p:blipFill>
        <p:spPr>
          <a:xfrm>
            <a:off x="106200" y="7751880"/>
            <a:ext cx="10217160" cy="37764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1"/>
          <p:cNvSpPr/>
          <p:nvPr/>
        </p:nvSpPr>
        <p:spPr>
          <a:xfrm>
            <a:off x="171360" y="4138560"/>
            <a:ext cx="10101240" cy="65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241"/>
          <p:cNvSpPr/>
          <p:nvPr/>
        </p:nvSpPr>
        <p:spPr>
          <a:xfrm>
            <a:off x="106200" y="0"/>
            <a:ext cx="10166400" cy="954000"/>
          </a:xfrm>
          <a:prstGeom prst="rect">
            <a:avLst/>
          </a:prstGeom>
          <a:solidFill>
            <a:srgbClr val="204d8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ФОТОМАТЕРИАЛЫ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 акции «Вода - безопасная территория» на территории  Солтонского района Алтайского кр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по состоянию на 25.06.2025 г.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48"/>
          <p:cNvSpPr/>
          <p:nvPr/>
        </p:nvSpPr>
        <p:spPr>
          <a:xfrm>
            <a:off x="217440" y="7920"/>
            <a:ext cx="1033776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ctr">
            <a:noAutofit/>
          </a:bodyPr>
          <a:p>
            <a:pPr algn="ctr">
              <a:lnSpc>
                <a:spcPts val="15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8" descr=""/>
          <p:cNvPicPr/>
          <p:nvPr/>
        </p:nvPicPr>
        <p:blipFill>
          <a:blip r:embed="rId2"/>
          <a:stretch/>
        </p:blipFill>
        <p:spPr>
          <a:xfrm>
            <a:off x="9510840" y="141120"/>
            <a:ext cx="590400" cy="5972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1"/>
          <p:cNvSpPr/>
          <p:nvPr/>
        </p:nvSpPr>
        <p:spPr>
          <a:xfrm>
            <a:off x="217440" y="4229280"/>
            <a:ext cx="42498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ведение профилактических бесед с населени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5338800" y="4229280"/>
            <a:ext cx="425124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ведение профилактических бесед с население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5386320" y="7705800"/>
            <a:ext cx="42372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ведение профилактических бесед с населени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217440" y="7705800"/>
            <a:ext cx="42498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ведение профилактических бесед с население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5" descr=""/>
          <p:cNvPicPr/>
          <p:nvPr/>
        </p:nvPicPr>
        <p:blipFill>
          <a:blip r:embed="rId3"/>
          <a:stretch/>
        </p:blipFill>
        <p:spPr>
          <a:xfrm>
            <a:off x="5227560" y="1046160"/>
            <a:ext cx="111240" cy="7115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"/>
          <p:cNvPicPr/>
          <p:nvPr/>
        </p:nvPicPr>
        <p:blipFill>
          <a:blip r:embed="rId4"/>
          <a:stretch/>
        </p:blipFill>
        <p:spPr>
          <a:xfrm>
            <a:off x="4951440" y="1046160"/>
            <a:ext cx="138240" cy="7137360"/>
          </a:xfrm>
          <a:prstGeom prst="rect">
            <a:avLst/>
          </a:prstGeom>
          <a:ln w="0">
            <a:noFill/>
          </a:ln>
        </p:spPr>
      </p:pic>
      <p:sp>
        <p:nvSpPr>
          <p:cNvPr id="59" name="Picture 19"/>
          <p:cNvSpPr/>
          <p:nvPr/>
        </p:nvSpPr>
        <p:spPr>
          <a:xfrm>
            <a:off x="1076400" y="1046160"/>
            <a:ext cx="3101760" cy="31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8" descr="C:\Users\User\AppData\Local\Temp\Rar$DRa2756.24776\IMG-20250625-WA0000.jpg"/>
          <p:cNvPicPr/>
          <p:nvPr/>
        </p:nvPicPr>
        <p:blipFill>
          <a:blip r:embed="rId5"/>
          <a:stretch/>
        </p:blipFill>
        <p:spPr>
          <a:xfrm>
            <a:off x="101520" y="1046160"/>
            <a:ext cx="4849920" cy="3092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9" descr="C:\Users\User\AppData\Local\Temp\Rar$DRa2756.45748\IMG-20250625-WA0001.jpg"/>
          <p:cNvPicPr/>
          <p:nvPr/>
        </p:nvPicPr>
        <p:blipFill>
          <a:blip r:embed="rId6"/>
          <a:stretch/>
        </p:blipFill>
        <p:spPr>
          <a:xfrm>
            <a:off x="5021280" y="1046160"/>
            <a:ext cx="5251320" cy="3092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0" descr="C:\Users\User\AppData\Local\Temp\Rar$DRa2756.49158\IMG-20250625-WA0003.jpg"/>
          <p:cNvPicPr/>
          <p:nvPr/>
        </p:nvPicPr>
        <p:blipFill>
          <a:blip r:embed="rId7"/>
          <a:stretch/>
        </p:blipFill>
        <p:spPr>
          <a:xfrm>
            <a:off x="101520" y="4614840"/>
            <a:ext cx="4849920" cy="2994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1" descr="C:\Users\User\AppData\Local\Temp\Rar$DRa2756.3582\IMG-20250625-WA0004.jpg"/>
          <p:cNvPicPr/>
          <p:nvPr/>
        </p:nvPicPr>
        <p:blipFill>
          <a:blip r:embed="rId8"/>
          <a:stretch/>
        </p:blipFill>
        <p:spPr>
          <a:xfrm>
            <a:off x="5021280" y="4614840"/>
            <a:ext cx="5251320" cy="29941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испетчер</dc:creator>
  <dc:description/>
  <dc:language>en-US</dc:language>
  <cp:lastModifiedBy>Пользователь</cp:lastModifiedBy>
  <cp:lastPrinted>2022-07-19T08:04:50Z</cp:lastPrinted>
  <dcterms:modified xsi:type="dcterms:W3CDTF">2025-06-25T02:41:05Z</dcterms:modified>
  <cp:revision>39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