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6ACC-19C3-4E09-8921-EDA85D0E1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0690-5D35-44F6-BD77-2D17F82CD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44F-0580-46A6-82CA-A515973C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B84-A879-4DC0-AA3D-7E442E13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EEF-E9FC-4AE6-B1DD-A764C716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96A-3110-42F2-812A-C921CCEB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85D-278F-4024-A212-E0AEF606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E9C-2D05-47BA-A520-DD2D343C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3FA-5369-4E0E-82CD-C32CC755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6AB-D0A7-4B22-A678-9DA4DACD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4F5-6678-4F20-B02B-CD04E1E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E35-C0FC-47CB-B592-1081FF1D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3CA-83C9-4B1E-9031-CE89F4C5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64B-C69A-461F-BFD3-9358E387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B3D6-7C11-43A0-B27D-6E930F0236AF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217160" cy="377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71360" y="4138560"/>
            <a:ext cx="101012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-36360" y="0"/>
            <a:ext cx="10308960" cy="9540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акции «Вода - безопасная территория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состоянию на 18.06.2025 г.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7440" y="422928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38800" y="42292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386320" y="7705800"/>
            <a:ext cx="4237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7440" y="77058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5227560" y="1046160"/>
            <a:ext cx="111240" cy="711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4"/>
          <a:stretch/>
        </p:blipFill>
        <p:spPr>
          <a:xfrm>
            <a:off x="4962600" y="954000"/>
            <a:ext cx="276120" cy="7255080"/>
          </a:xfrm>
          <a:prstGeom prst="rect">
            <a:avLst/>
          </a:prstGeom>
          <a:ln w="0">
            <a:noFill/>
          </a:ln>
        </p:spPr>
      </p:pic>
      <p:sp>
        <p:nvSpPr>
          <p:cNvPr id="59" name="Picture 19"/>
          <p:cNvSpPr/>
          <p:nvPr/>
        </p:nvSpPr>
        <p:spPr>
          <a:xfrm>
            <a:off x="1076400" y="1046160"/>
            <a:ext cx="31017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C:\Users\User\Desktop\DSCF8393.JPG"/>
          <p:cNvPicPr/>
          <p:nvPr/>
        </p:nvPicPr>
        <p:blipFill>
          <a:blip r:embed="rId5"/>
          <a:stretch/>
        </p:blipFill>
        <p:spPr>
          <a:xfrm>
            <a:off x="5100480" y="1046160"/>
            <a:ext cx="5096160" cy="31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C:\Users\User\Desktop\DSCF8394.JPG"/>
          <p:cNvPicPr/>
          <p:nvPr/>
        </p:nvPicPr>
        <p:blipFill>
          <a:blip r:embed="rId6"/>
          <a:stretch/>
        </p:blipFill>
        <p:spPr>
          <a:xfrm>
            <a:off x="133200" y="1046160"/>
            <a:ext cx="4829400" cy="309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C:\Users\User\Desktop\DSCF8392.JPG"/>
          <p:cNvPicPr/>
          <p:nvPr/>
        </p:nvPicPr>
        <p:blipFill>
          <a:blip r:embed="rId7"/>
          <a:stretch/>
        </p:blipFill>
        <p:spPr>
          <a:xfrm>
            <a:off x="98280" y="4581360"/>
            <a:ext cx="4864320" cy="302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C:\Users\User\Desktop\DSCF8395.JPG"/>
          <p:cNvPicPr/>
          <p:nvPr/>
        </p:nvPicPr>
        <p:blipFill>
          <a:blip r:embed="rId8"/>
          <a:stretch/>
        </p:blipFill>
        <p:spPr>
          <a:xfrm>
            <a:off x="5084640" y="4581360"/>
            <a:ext cx="501660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5-06-18T02:27:50Z</dcterms:modified>
  <cp:revision>3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