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4561-B72E-49D2-BCD4-0CDE8B9C9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6C0C-02D2-4A61-8BB5-E234748CC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8A8-0E01-4032-99E5-C02C02F7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ACF-B8EE-49E9-915D-679BCF28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7BD-285D-4F60-A057-17AAE974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B63-7517-4F5A-8176-F1FBDEDA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71D-29BA-4CDE-901A-D12B7B84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629-09BE-4528-84BA-E30B9F4F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7F0-6357-4FF2-8709-C92DD3D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851-8D7F-42A3-9C91-83BC16CD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675-B688-4BC3-9225-271B40F2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606-20A5-4DC1-8C9D-E547B8B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633-1A27-416D-B4E0-2FD6A5B9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D7D-14AF-440D-ABD0-77D4442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F343-2FD9-456D-850F-E5EE5E7ADF3B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217160" cy="377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71360" y="4138560"/>
            <a:ext cx="1010124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0"/>
            <a:ext cx="10308960" cy="9540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акции «Вода - безопасная территория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состоянию на 17.06.2025 г.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7440" y="422928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338800" y="42292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386320" y="7705800"/>
            <a:ext cx="4237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7440" y="77058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3"/>
          <a:stretch/>
        </p:blipFill>
        <p:spPr>
          <a:xfrm>
            <a:off x="5227560" y="1046160"/>
            <a:ext cx="111240" cy="711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4"/>
          <a:stretch/>
        </p:blipFill>
        <p:spPr>
          <a:xfrm>
            <a:off x="4962600" y="954000"/>
            <a:ext cx="276120" cy="7255080"/>
          </a:xfrm>
          <a:prstGeom prst="rect">
            <a:avLst/>
          </a:prstGeom>
          <a:ln w="0">
            <a:noFill/>
          </a:ln>
        </p:spPr>
      </p:pic>
      <p:sp>
        <p:nvSpPr>
          <p:cNvPr id="59" name="Picture 19"/>
          <p:cNvSpPr/>
          <p:nvPr/>
        </p:nvSpPr>
        <p:spPr>
          <a:xfrm>
            <a:off x="1076400" y="1046160"/>
            <a:ext cx="31017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C:\Users\User\Desktop\WhatsApp Image 2025-06-17 at 09.30.20 (2).jpeg"/>
          <p:cNvPicPr/>
          <p:nvPr/>
        </p:nvPicPr>
        <p:blipFill>
          <a:blip r:embed="rId5"/>
          <a:stretch/>
        </p:blipFill>
        <p:spPr>
          <a:xfrm>
            <a:off x="27000" y="1046160"/>
            <a:ext cx="4834080" cy="30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C:\Users\User\Desktop\WhatsApp Image 2025-06-17 at 09.30.20.jpeg"/>
          <p:cNvPicPr/>
          <p:nvPr/>
        </p:nvPicPr>
        <p:blipFill>
          <a:blip r:embed="rId6"/>
          <a:stretch/>
        </p:blipFill>
        <p:spPr>
          <a:xfrm>
            <a:off x="4962600" y="1046160"/>
            <a:ext cx="5310000" cy="31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C:\Users\User\Desktop\WhatsApp Image 2025-06-17 at 09.30.20 (1).jpeg"/>
          <p:cNvPicPr/>
          <p:nvPr/>
        </p:nvPicPr>
        <p:blipFill>
          <a:blip r:embed="rId7"/>
          <a:stretch/>
        </p:blipFill>
        <p:spPr>
          <a:xfrm>
            <a:off x="27000" y="4603680"/>
            <a:ext cx="4834080" cy="300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C:\Users\User\Desktop\1 ф.jpeg"/>
          <p:cNvPicPr/>
          <p:nvPr/>
        </p:nvPicPr>
        <p:blipFill>
          <a:blip r:embed="rId8"/>
          <a:srcRect l="1538" t="8122" r="9593" b="-4409"/>
          <a:stretch/>
        </p:blipFill>
        <p:spPr>
          <a:xfrm>
            <a:off x="4962600" y="4603680"/>
            <a:ext cx="5310000" cy="325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5-06-17T02:41:06Z</dcterms:modified>
  <cp:revision>3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